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88F9B-11DD-49BB-8F39-6FBA65E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F392C-E460-48B7-B2A2-2F6BAB44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5CBAD-A547-4AC7-99A8-1601381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58B6F-ABC1-49AA-A9E8-A6D220C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4C21A-D585-4BFA-9FE2-D36566E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19B7B-E03E-49D4-801A-AD31436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302160-7AE9-4C9E-96D8-22F2A60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33B20-140B-454A-A28C-A9882157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D4200-8042-4B0F-9C56-A7D0DC79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AE0C-E9BE-49A6-AAF3-8C4BA928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38F6-A1E2-4B57-9F0D-1B7D41AA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38409-D955-42BA-9191-842DE50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6CA2-1D7C-4B63-AA88-D421BB9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33629-0591-49E6-9EB7-8CE6EDD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5C004-E1A0-45BE-B133-263670C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CC5EE-A1D1-4CD6-8DB5-C7B8DA7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57919-4119-4D46-A537-58E9468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F6AE9-BB1D-47EC-A02E-1BE7086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14D18-67C6-4B72-A807-06C749C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7A91-CDED-4062-BF1F-90E345B4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A553E-5D8A-49AB-887B-A1DC0E1D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DC0A7-2DDE-439B-8D1A-2D714F4B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FD8AC-2209-4AF8-8046-F320BBD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F3DD-7C0B-47AC-B071-835A04C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9EFCB-AC19-4DCF-9BEC-17197594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EE573-6796-45CC-8561-010474E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373EF-B416-483B-8C3B-CA5BDD38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61D44-A3C5-4CE2-A50A-77D99F6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B0DD1-B735-4A8F-A9B0-6C2A959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F250E-DD03-4D12-8F2F-CCDD91D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4C197-C956-4A83-8A52-15ACAFD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478DB-3A19-42AD-BAC4-D054D1CC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113EA-87B2-47EA-9FE7-D8D1A524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CBDAA-AB03-447E-9D93-34500F5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F63E4-02A6-4720-A83D-CE9BFD1F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943D1-0707-472E-8728-CA2A76F6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1BE1D-B390-4A14-B6A5-0086BBDD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6EAFE-AC2D-493D-8A7C-ACA844B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EE874-8C99-47FF-A68B-3350D468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76BE9-5DBE-4265-B06A-1C7E7442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DF80B-EACD-48AF-94FF-4519504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4CFFB-44E4-4AAD-934D-3AF493C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F07DF-7819-4D96-9F42-CB7F1211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3D6CB-F3D3-44E1-AEC8-3512C47C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3DBF1-DD1D-4CD4-BE56-833D6F7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EF18F-2137-4891-9ADC-0940E587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A2EB8-A19E-4C29-ABD6-E021603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1EB6A-9F6E-44C4-A8F3-941BB42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238B3-4A78-4C00-AA54-59C5CAD8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1D7AD-89FE-4AD1-9313-828575E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4C204-6211-4270-AE46-D2F0FB4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5D767-DF01-461A-A251-8878DAA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3A93E-AC39-4B94-BCDF-035EA91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5A68C-9560-4C80-A08A-101ABE9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7D68B-6D80-49AC-8275-D4EBB14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084FE-8BDC-43F0-A891-1B73BB07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9FADA-AC4A-475F-9DB4-93B5C4D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C47ED-3FB1-45A2-82EC-C37B8C7E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70435-F06E-4A5C-B26A-6127E12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9209A-3156-4AF5-9282-BDAE05AC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BB86D-E5D2-44B0-AC90-274B875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C4545-7703-4B9A-86B5-D19EA34D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A83E3-1C46-49F1-84DA-1571E1A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62094-FD93-4F8A-A047-9169185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1293D-BA84-4D2E-B72A-9CE531B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6C5D3-8B0E-49F1-87CF-B62E7B6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33C37-B8D5-4FB8-9AE5-05CF716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A2BB6-1C2C-4596-A085-E3A78246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9C05E-A7FD-4CBA-B5E9-315CFC58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9E631-55DD-4FD8-894A-36A0C416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59030-D6B3-4C99-8E51-AF48C67F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E28F0-A89B-404C-B88D-262007B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24293-272D-47BA-8065-64F796E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10555-0A9D-4A24-BEB0-D1043BA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FEC74-C830-4B2C-9B9A-B06136D3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0054D-06FE-4CE5-A2A4-48A6A4D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D9836-1960-4389-BD0B-5440EB9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C840D-4C06-4ED0-9D70-89A015D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F19F1-D0FD-4E33-A478-70C79AC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ECB4A-BA98-47E1-B2FC-46FF4D4B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968F7-046D-4E08-8A2F-986B2894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C462A-B2E2-4CAE-88A2-8214626E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DB7F1-3271-4202-AD16-F9F6C44D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1610F-AF23-4E4A-9303-F7E29D3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954BC-B6C9-4449-8E22-E22A246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98322-266C-4BE6-BAB6-16FF60F8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9970C-7183-4CFC-96CA-178ED82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8B0DD-AD38-4A05-8F23-379305F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6CA04-1FD9-41D7-A99D-A63DC01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AB948-1698-48D3-8E78-C07C3DD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B8695-FA85-4B4C-B7D8-401F7190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FE4CB-E8EE-483F-A0E0-FC1517C9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5B2571-2385-4D5D-BF28-5A242ABD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33110-B4E3-446C-977A-4E23DDE6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8DCA4-A0B7-4426-9107-C8FD94A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9F29E-6C7F-4C82-A8E8-E4257AE2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20BE-7DD1-4B7B-98DF-B22854C54E6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914-937A-4F92-9091-6D339511636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326-6CF5-4FCF-8BAE-511E8C35D44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2545-5841-475F-87AB-5A93AB88A81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EC16-6A77-4790-B7B9-E298D260B46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21E4-5CA5-4AC1-A485-F68A04BED46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249-D347-4B4C-B3C9-17B39655CF9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52C-77F2-4189-9308-E81C4D27F8D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real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462040" y="1319040"/>
            <a:ext cx="42199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real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Surrealism is </a:t>
            </a:r>
            <a:r>
              <a:rPr b="0" lang="en-US" sz="3200" spc="-1" strike="noStrike">
                <a:solidFill>
                  <a:srgbClr val="040c28"/>
                </a:solidFill>
                <a:latin typeface="Comic Sans MS"/>
              </a:rPr>
              <a:t>an abstract art movement</a:t>
            </a: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It was started in the 1920s by writer Andre Bret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Images are based on fantasy and the world of drea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Artists: Andre Breton; Salvador D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Salvador Dalí - Eccentric Genus - Art and Design Inspiration"/>
          <p:cNvPicPr/>
          <p:nvPr/>
        </p:nvPicPr>
        <p:blipFill>
          <a:blip r:embed="rId1"/>
          <a:stretch/>
        </p:blipFill>
        <p:spPr>
          <a:xfrm>
            <a:off x="1133640" y="549360"/>
            <a:ext cx="68767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René Magritte Paintings and Prints"/>
          <p:cNvPicPr/>
          <p:nvPr/>
        </p:nvPicPr>
        <p:blipFill>
          <a:blip r:embed="rId1"/>
          <a:stretch/>
        </p:blipFill>
        <p:spPr>
          <a:xfrm>
            <a:off x="1952640" y="1276200"/>
            <a:ext cx="52387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Musée Magritte Museum | Magritte art, Rene magritte art, Magritte"/>
          <p:cNvPicPr/>
          <p:nvPr/>
        </p:nvPicPr>
        <p:blipFill>
          <a:blip r:embed="rId1"/>
          <a:stretch/>
        </p:blipFill>
        <p:spPr>
          <a:xfrm>
            <a:off x="2494080" y="476280"/>
            <a:ext cx="41558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The 10 Best Surrealist Artists According to AI – artAIstry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Surreal portraits by Henrietta Harris | the PhotoPhore"/>
          <p:cNvPicPr/>
          <p:nvPr/>
        </p:nvPicPr>
        <p:blipFill>
          <a:blip r:embed="rId1"/>
          <a:stretch/>
        </p:blipFill>
        <p:spPr>
          <a:xfrm>
            <a:off x="2562120" y="549360"/>
            <a:ext cx="401976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Surrealist portrait paintings blending human heads with nature elements by  Rafael Silveira — Visualflood Magazine"/>
          <p:cNvPicPr/>
          <p:nvPr/>
        </p:nvPicPr>
        <p:blipFill>
          <a:blip r:embed="rId1"/>
          <a:stretch/>
        </p:blipFill>
        <p:spPr>
          <a:xfrm>
            <a:off x="2371680" y="476280"/>
            <a:ext cx="4400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reate a self-portrait using Surrealist techniques. To do this you ne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distorted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of random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eami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of symb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.pillar@gmail.com</cp:lastModifiedBy>
  <dcterms:modified xsi:type="dcterms:W3CDTF">2023-05-18T12:24:48Z</dcterms:modified>
  <cp:revision>16</cp:revision>
  <dc:subject/>
  <dc:title>Slide 1</dc:title>
</cp:coreProperties>
</file>